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4 videos, each are about 2 minutes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it either this slide or the next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4 videos, each are about 2 minutes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a group of 3, then C &amp; D could be combined… Part C has lots of ch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 Create a graph, symbol, picture, word splash, poem, etc. that demonstrates the key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DFCA-FF5A-439B-AFC1-2275FE79B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E143-2EAD-479A-BFEC-AAF3339F7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4751-5D7F-46A6-9060-31BCB3D28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1ED1-6B3D-4EE6-B7E8-24C5D2A12D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C55B5-ACC0-4368-B7C6-7EA769A99E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BD655-BF57-48EC-92FD-0D62129C4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08466-5516-4D18-A1E4-94E134A31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DC34B-DD2B-4C47-BA8E-2972A122B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4A18-EEED-415A-9399-72A550134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B54EA-E7D9-44C1-AEE8-55CCD2D04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D883-3275-4E8B-B0D5-44D3B0701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FAC55-BEBF-4FAB-958A-B103BAAC4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E3DF-DDB7-42FD-A648-E265387A11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51F2-DD9F-42B3-B4A3-F0B6D1DB9C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Algebraic Thinking Session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Nottawas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Responding to Student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Responding to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ight “effective feedback”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ight “ineffective feedback”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one response effective and another less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D3BC-192D-428A-BD10-9027EA5BBD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Responding to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you respond effectively to this pair of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your suggested response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C51C-1ADF-4387-A782-A473238956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ing with Time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samples of student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how you will respond to this small group of students during tomorrow’s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thematics will you focus on?  What will you say? What question(s) will you as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one representative sample to share with the whole grou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A79D-A45B-4765-9B95-A51D062E6B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ing with Time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resentative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verview of your response to this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AF37-C0AB-4C0D-A62A-5DDBBD39B5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se groups of students are in the same class.  Now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manage differentiated responses to the individuals and small groups in our class who have different learning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4B8B-2724-49C7-8DA5-698E325313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429000" y="1600200"/>
            <a:ext cx="45720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feel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333B-80CD-4FCB-BD24-A80C0F4D22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Z:\Clip Art\Road Signs\Traffic Signals\Signal 54.wmf"/>
          <p:cNvPicPr/>
          <p:nvPr/>
        </p:nvPicPr>
        <p:blipFill>
          <a:blip r:embed="rId1"/>
          <a:stretch/>
        </p:blipFill>
        <p:spPr>
          <a:xfrm>
            <a:off x="401760" y="1447920"/>
            <a:ext cx="144756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today’s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8997-1F7F-4D73-AC78-31092C1ED5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Z:\Clip Art\Travel &amp; Leisure\Vacations (F - Q)\Map.wmf"/>
          <p:cNvPicPr/>
          <p:nvPr/>
        </p:nvPicPr>
        <p:blipFill>
          <a:blip r:embed="rId1"/>
          <a:stretch/>
        </p:blipFill>
        <p:spPr>
          <a:xfrm>
            <a:off x="6553080" y="19512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Z:\Clip Art\Travel &amp; Leisure\Vacations (F - Q)\Passport 1.wmf"/>
          <p:cNvPicPr/>
          <p:nvPr/>
        </p:nvPicPr>
        <p:blipFill>
          <a:blip r:embed="rId2"/>
          <a:stretch/>
        </p:blipFill>
        <p:spPr>
          <a:xfrm rot="21444000">
            <a:off x="7997400" y="510840"/>
            <a:ext cx="83844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lgebraic Thinking ~ Session #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characteristics of effec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and extend personal repertoire of question stems to be used when responding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3A08-9823-41D0-B52D-371B28129F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4639-A42F-439D-BBCD-FFD2AACA60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lgebraic Thinking ~ Session #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2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 and extend personal repertoire of strategies for responding to groups of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strategies that facilitate multiple responses within a singl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athematical thinking in a range of responses to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F26B-C9FF-40C1-8B68-F14C1AA532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E3EB-B896-46D0-B1BF-9B097CB969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Think/Pair/Shar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time when you received feedback that really helped you to impr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feedback look like?  Feel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de it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DA96-357F-4C9D-A8B3-D5839ED812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Z:\Clip Art\Sports\Cartoons (A - Ba)\Baseball - Coach 3.wmf"/>
          <p:cNvPicPr/>
          <p:nvPr/>
        </p:nvPicPr>
        <p:blipFill>
          <a:blip r:embed="rId1"/>
          <a:stretch/>
        </p:blipFill>
        <p:spPr>
          <a:xfrm>
            <a:off x="6248520" y="4419720"/>
            <a:ext cx="274608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Self Assess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21C2-2378-4B4C-9140-33DBDB6761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81040" y="1143000"/>
            <a:ext cx="7572240" cy="430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228600" y="617400"/>
            <a:ext cx="928800" cy="86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8226360" y="550440"/>
            <a:ext cx="622440" cy="8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Create a Gro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nto a group of 4 people based on your preferred learnin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o is A, B, C, and D based on years of teaching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– least hair  through to D - most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131E-58AE-47C1-8E89-B8B56D11AB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Z:\Clip Art\Clothing &amp; Accessories\Glasses\Eyeglasses 16.wmf"/>
          <p:cNvPicPr/>
          <p:nvPr/>
        </p:nvPicPr>
        <p:blipFill>
          <a:blip r:embed="rId1"/>
          <a:stretch/>
        </p:blipFill>
        <p:spPr>
          <a:xfrm>
            <a:off x="1371600" y="2743200"/>
            <a:ext cx="12668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Z:\Clip Art\Cartoons\Make Your Own! (A - Ha)\Ear 6.wmf"/>
          <p:cNvPicPr/>
          <p:nvPr/>
        </p:nvPicPr>
        <p:blipFill>
          <a:blip r:embed="rId2"/>
          <a:stretch/>
        </p:blipFill>
        <p:spPr>
          <a:xfrm>
            <a:off x="6858000" y="2292480"/>
            <a:ext cx="581040" cy="1447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Z:\Clip Art\People\Cartoons (Ma - Ma) 1\Man Running 02.wmf"/>
          <p:cNvPicPr/>
          <p:nvPr/>
        </p:nvPicPr>
        <p:blipFill>
          <a:blip r:embed="rId3"/>
          <a:stretch/>
        </p:blipFill>
        <p:spPr>
          <a:xfrm>
            <a:off x="4038480" y="2666880"/>
            <a:ext cx="1168560" cy="12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6640" y="228600"/>
            <a:ext cx="462924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search Artic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3187440"/>
            <a:ext cx="8381880" cy="327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Highl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~ Feedback as Part of Formative Assessment (pp 1-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~ What the Research Shows (pp 3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~ Feedback Strategies and Content (pp 4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~ Feedback and Grading (pp 7-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5D93-2C18-457C-ACA8-7896CEA9B4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1685880" cy="188424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233280" y="237636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Susan Brookh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 Callout 4"/>
          <p:cNvSpPr/>
          <p:nvPr/>
        </p:nvSpPr>
        <p:spPr>
          <a:xfrm>
            <a:off x="4495680" y="1676520"/>
            <a:ext cx="4496040" cy="1511280"/>
          </a:xfrm>
          <a:prstGeom prst="cloudCallout">
            <a:avLst>
              <a:gd name="adj1" fmla="val -47884"/>
              <a:gd name="adj2" fmla="val 46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the characteristics of effective feedbac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Share and Summariz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what you read using a Round Robin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key characteristics of effectiv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wish to choose a product that aligns with your preferred learnin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product with the larg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F4FC-CBBF-482F-B7FF-DC0F4DD0E7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Responding to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9 students are responding to this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called A is 20% of a number called B. But A is 40% of C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know about B and 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6045-ED28-4B1D-BB76-FEB27F2AF1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agrafton</cp:lastModifiedBy>
  <dcterms:modified xsi:type="dcterms:W3CDTF">2011-08-09T00:40:06Z</dcterms:modified>
  <cp:revision>20</cp:revision>
  <dc:subject/>
  <dc:title>&lt;Title&gt;</dc:title>
</cp:coreProperties>
</file>